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5D9-4CC0-4534-9F6D-F9153CF0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6E4-9303-4AFE-8451-4AAA5EA4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AAF-BA76-47D1-8436-0423EED4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3B2-7128-4764-BD9B-C0330DBF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E1C-CBF1-4D17-96C2-D73D61BD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8AB-9110-4F68-A71E-3FE77569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9CA-1879-43FA-A9BC-85488DD8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EB6-7EAC-49F7-BCE0-EDD7CF25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267-0A85-46D1-9CA5-4C11E034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FFF-B9C1-4D29-8EB8-15B0ECE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D9C-B6AD-4091-845E-ED50256F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EA6-FEB9-481F-A959-CA37623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23AC-CF2C-4865-B26C-C32EA5A15C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-10-09-04-00-4048972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N00500_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老人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排队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t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9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ody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ictory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reat2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andshake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romise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myth</cp:lastModifiedBy>
  <dcterms:modified xsi:type="dcterms:W3CDTF">2004-06-06T14:55:48Z</dcterms:modified>
  <cp:revision>15</cp:revision>
  <dc:subject/>
  <dc:title>Welcome to my class!</dc:title>
</cp:coreProperties>
</file>